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F86-771C-4DB8-BAB3-FD32FDA6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E2D-0DA6-45CB-AD3B-FAC7C9CD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3197-9436-40D8-978F-03759442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A29F-B86B-4784-9ABC-B97377FC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5696-DAD6-47F0-8E36-DA0BF988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665C-FD12-48C8-A581-64CEDEA6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6F23-CEC3-4C51-B6F1-73B0BF1A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9CBA-F820-4872-8E91-DCF2D86C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1148-7722-411A-9399-EC2EBFDD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6A4A-99D9-401A-A888-F11B2DA7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D3B8-8818-487A-9D6C-DC821819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69B-54DC-44D0-9C3E-981760F8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1212-D453-42F2-AE84-9F1523E8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823F-8A5E-459B-99A2-A7F9925F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B2BB-7C56-4E14-AB03-84D94F9B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DD22-ADEA-433A-9E10-D4C48D7D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3314-6C6F-4723-AD75-700B0EEB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45E-758C-466A-BB4B-CC3055DF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5E5C-77C2-4214-8DE8-E0E7AD9C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BF4-156E-4046-87BE-03125458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314-D5EB-4C68-891D-5168DF3B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E8FD-24DA-473A-B959-A589EC09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6D4-265D-49B5-B5DA-AE3E4B9C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BAF-CCCD-4795-ADE4-C8041123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0C1C-0579-4843-9449-7FF2B4A445A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9457-3936-4C13-AD3B-CFA9C18EED30}" type="slidenum">
              <a:rPr b="0" lang="en-A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2131200"/>
            <a:ext cx="74674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ff"/>
                </a:solidFill>
                <a:latin typeface="Tahoma"/>
              </a:rPr>
              <a:t>Metabolic basis of Muscular Fatigue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depletion - glycog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4267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ycogen depletion associated with fatigue during prolonged submaximal exerc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3505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006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depletion - glycog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2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low-twitch fibres become glycogen depleted first, followed by fast-twit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20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me pattern occurs during high and low intensity exercise due to Henneman’s size princip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200000"/>
              </a:lnSpc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ate of depletion accelerated during high intensity exerci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20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sible to fatigue due to glycogen depletion from specific muscle fibres when glycogen remains in other fib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200000"/>
              </a:lnSpc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actate shuttle offsets this effec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2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505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depletion - glycog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7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ver releases glucose to offset reduction in muscle glyc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7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liver and muscle glycogen depleted acetyl CoA formed fr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7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oxid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7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lucose derived from gluconeogene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17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slows formation of acetyl CoA (and ATP) so fatigue occu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505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accumulation - lactat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5638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ring moderate-high intensity exercise lactic acid accumulates within the active muscles and blo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4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ctic acid 99.5% dissociated at physiological 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ctic acid accumulation associated with fatig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4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ctate ion involved in fatig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4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echanism not know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4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on involved in fatig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4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umber of possible mechanis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3505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791320" y="1905120"/>
            <a:ext cx="3070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accumulation - lactat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on may contribute to fatigue v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pid depletion of PCr st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1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on involved in CK reaction and will displace reaction to favour PCr break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lnSpc>
                <a:spcPct val="1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P + PCr +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1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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TP + C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hibition of PFK (widely accept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1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shown to inhibit PFK in vit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lnSpc>
                <a:spcPct val="1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 vivo, increases in AMP, ADP and F 6-P overcome this inhibition so that glycolytic rate is retaine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3505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accumulation - lactat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5639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on may contribute to fatigue vi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4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placement of C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rom binding with troponin 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140000"/>
              </a:lnSpc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ailure to form cross-bridges and develop tens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4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imulation of pain receptors within musc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140000"/>
              </a:lnSpc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egative feedback mechanism (protective effect)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4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hibition of triacylglycerol lipase acti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140000"/>
              </a:lnSpc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duced lipolysis will increase reliance on CHO as fuel, leading to earlier glycogen deple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3505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943600" y="2438280"/>
            <a:ext cx="2743200" cy="1586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943600" y="4114800"/>
            <a:ext cx="2743200" cy="1482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791320" y="563868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dapted from:  Tortora GJ &amp; Grabowski SR.  (2000) Principles of Anatomy and Physiology (9th Ed). New York: Wiley. p27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accumulation - lactat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40000"/>
              </a:lnSpc>
              <a:spcBef>
                <a:spcPts val="4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cent evidence suggests that intracellular acidosis may actually protect against fatigue by enhancing the ability of the T-tubule system to carry action potentials to the sarcoplasmic reticulu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40000"/>
              </a:lnSpc>
              <a:spcBef>
                <a:spcPts val="34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K+ accumulation in T-tubules during muscle contraction reduces excitability of T-tubules (due to inactivation of some voltage gated channel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40000"/>
              </a:lnSpc>
              <a:spcBef>
                <a:spcPts val="3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duces ability to carry electrical signals to sarcoplasmic reticul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-217080">
              <a:lnSpc>
                <a:spcPct val="140000"/>
              </a:lnSpc>
              <a:spcBef>
                <a:spcPts val="24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Reduced release of calcium from SR results in fewer cross-bridges being formed and loss of forc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3505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495680" y="2438280"/>
            <a:ext cx="4419720" cy="3446280"/>
            <a:chOff x="4495680" y="2438280"/>
            <a:chExt cx="4419720" cy="3446280"/>
          </a:xfrm>
        </p:grpSpPr>
        <p:sp>
          <p:nvSpPr>
            <p:cNvPr id="141" name=""/>
            <p:cNvSpPr/>
            <p:nvPr/>
          </p:nvSpPr>
          <p:spPr>
            <a:xfrm>
              <a:off x="4495680" y="5486040"/>
              <a:ext cx="4419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Adapted from:  Pedersen et al.   Intracellular acidosis enhances the excitability of working muscle.  Science 305:1144-1147, 2004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495680" y="2438280"/>
              <a:ext cx="4419720" cy="297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accumulation - calcium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6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eleased from sarcoplasmic reticulum may enter mitochond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6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d Ca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 mitochondrial matrix would reduce electrical gradient across inner membra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16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ould reduce H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low through ATP syntha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487880" indent="-212400">
              <a:lnSpc>
                <a:spcPct val="16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duced ATP produ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3505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809880" cy="3352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800600" y="5791320"/>
            <a:ext cx="4343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rom: Matthews, CK &amp; van Holde KE (1990) Biochemistry. Redwood City:Benjamin Cummings p.526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uscular fatigu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274284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cular fatig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bility to maintain a given exercise intensity or force outpu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uscular fatigu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0200" y="22856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one cause of fatig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5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tifocal phenomen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15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entral and peripheral compon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abolic fatigue results from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5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letion of key metabolites which facilitate contr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5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cumulation of metabolites which impair contr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depletion - phosphage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osphagen depletion associated with fatigue during short duration high-intensity exer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15000" y="1676520"/>
            <a:ext cx="2992320" cy="4495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638680" y="624852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Copyright 1997 Associated Press. All rights reserve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depletion - phosphage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mediate source of ATP rephosphorylation is phosphocreatine (PC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tine kinase functions so rapidly that muscular ATP affected little until PCr significantly deple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P and PCr concentrations in resting muscle are l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tilisation must be matched  by restoration otherwise stores rapidly deplete and fatigue occu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depletion - phosphage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ring exercise at set work load PCr decreases in two ph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pid initial decl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lower secondary decl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14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ower due to glycolysis and KC increasing ATP production which rephosphorylates PC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th initial decline and extent of final decrease related to relative exercise intens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676680" cy="3828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181480" y="594360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dapted from:  Brooks GA &amp; Fahey TD.  (1985) Exercise Physiology: Human Bioenergetics and its Applications.  New York: MacMillan. p70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depletion - phosphage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4572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P declines initially during onset of exercise, but well maintained during steady-state exerc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lnSpc>
                <a:spcPct val="1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P hydrolysis buffered by PC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594360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dapted from:  Brooks GA &amp; Fahey TD.  (1985) Exercise Physiology: Human Bioenergetics and its Applications.  New York: MacMillan. p70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4114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depletion - phosphage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34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2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tigue coincides with PCr deple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20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ce PCr stores depleted ATP concentration fal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37080" indent="-187200">
              <a:lnSpc>
                <a:spcPct val="20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ociated with fatigue during short duration, high intensity exerci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86728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dapted from:  Sahlin K.  (1986) Metabolic changes limiting muscle performance.  In: B Saltin (Ed) Biochemistry of Exercise VI.  Champaign: Human Kinetics. p3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105520" y="2438280"/>
            <a:ext cx="3581280" cy="1704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35719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Metabolite depletion - phosphage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2743200"/>
            <a:ext cx="4419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2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ation of ATP from PCr hydrolysis consumes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20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portant buffering effect during high intensity exerci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3505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38098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P + PCr +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TP + C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12:18:31Z</dcterms:created>
  <dc:creator>Dr. Jon Buckley</dc:creator>
  <dc:description/>
  <dc:language>en-US</dc:language>
  <cp:lastModifiedBy>bucklejd</cp:lastModifiedBy>
  <dcterms:modified xsi:type="dcterms:W3CDTF">2005-04-08T03:57:49Z</dcterms:modified>
  <cp:revision>375</cp:revision>
  <dc:subject/>
  <dc:title>Protein Structure</dc:title>
</cp:coreProperties>
</file>